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271-E257-4FDF-AAEE-8AD4F00D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A4A-D7C5-4167-8319-DC75C7E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F40-7D3C-49BC-9B80-C7E4EED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A35-1E57-4470-BFB5-9C45DA4E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1AD-9490-4BAA-96C3-19A3C898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09D-D4FF-440D-82B9-363A0E8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35E-ACCC-42EA-B323-99BDE3A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463-9891-4374-B451-D702B50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27C-1668-4A50-9475-010B06F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5CF-5069-4824-8B69-0FF8AE5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98F-9B7C-49E7-800D-CE0D75B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E85-E749-452E-944E-27634FC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18B1-9DED-4DC1-94B9-BA7EBD26A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to Improve the Care of Older Persons with Challenging Behaviors related to Alzheimer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0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L. Malone,M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ora Health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C900439255[1]"/>
          <p:cNvPicPr/>
          <p:nvPr/>
        </p:nvPicPr>
        <p:blipFill>
          <a:blip r:embed="rId1"/>
          <a:stretch/>
        </p:blipFill>
        <p:spPr>
          <a:xfrm>
            <a:off x="3505320" y="5257800"/>
            <a:ext cx="82044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C900439255[1]"/>
          <p:cNvPicPr/>
          <p:nvPr/>
        </p:nvPicPr>
        <p:blipFill>
          <a:blip r:embed="rId2"/>
          <a:stretch/>
        </p:blipFill>
        <p:spPr>
          <a:xfrm>
            <a:off x="4648320" y="5257800"/>
            <a:ext cx="820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lle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06480" y="1560600"/>
            <a:ext cx="74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person with cognitive impairment at risk for challenging behavi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3643200" y="19810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276720" y="2438280"/>
            <a:ext cx="180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sis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3643200" y="2971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28600" y="4114800"/>
            <a:ext cx="79246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ilwaukee county organized strategy to assess / address the nee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care for in the hospital and prolonged hospital st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find post- acute care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bio- psycho- soci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issues of assessing and addressing patient’s saf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prevention strategies/ competencies for long-term care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914400" y="685800"/>
            <a:ext cx="243828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914400" y="762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munity: Stabilize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562720" y="685800"/>
            <a:ext cx="243828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36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 Term Care Facility: Treat In Place To Extent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429000" y="380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Person Resides At Time Of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438280" y="2514600"/>
            <a:ext cx="43434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ON/PLACEMENT INITIATION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Crisis, Law Enforcement/First Responder Training, Facility Staf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8"/>
          <p:cNvSpPr/>
          <p:nvPr/>
        </p:nvSpPr>
        <p:spPr>
          <a:xfrm>
            <a:off x="4343400" y="3581280"/>
            <a:ext cx="6094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200400" y="4191120"/>
            <a:ext cx="29718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55 Protective Placement Facility(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286000" y="5105520"/>
            <a:ext cx="487692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2900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math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2590920" y="5486400"/>
            <a:ext cx="9903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267080" y="5486400"/>
            <a:ext cx="99072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5867280" y="5486400"/>
            <a:ext cx="99072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7"/>
          <p:cNvCxnSpPr/>
          <p:nvPr/>
        </p:nvCxnSpPr>
        <p:spPr>
          <a:xfrm flipH="1">
            <a:off x="3352320" y="4876560"/>
            <a:ext cx="53424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21"/>
          <p:cNvCxnSpPr/>
          <p:nvPr/>
        </p:nvCxnSpPr>
        <p:spPr>
          <a:xfrm>
            <a:off x="4723920" y="4876560"/>
            <a:ext cx="108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23"/>
          <p:cNvCxnSpPr/>
          <p:nvPr/>
        </p:nvCxnSpPr>
        <p:spPr>
          <a:xfrm>
            <a:off x="5866920" y="4876560"/>
            <a:ext cx="30564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Elbow Connector 29"/>
          <p:cNvCxnSpPr/>
          <p:nvPr/>
        </p:nvCxnSpPr>
        <p:spPr>
          <a:xfrm flipV="1" rot="16200000">
            <a:off x="1371240" y="2742480"/>
            <a:ext cx="2363040" cy="1296000"/>
          </a:xfrm>
          <a:prstGeom prst="bentConnector3">
            <a:avLst>
              <a:gd name="adj1" fmla="val -4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Elbow Connector 56"/>
          <p:cNvCxnSpPr/>
          <p:nvPr/>
        </p:nvCxnSpPr>
        <p:spPr>
          <a:xfrm flipH="1" flipV="1" rot="5400000">
            <a:off x="5638320" y="2742840"/>
            <a:ext cx="2363040" cy="1296000"/>
          </a:xfrm>
          <a:prstGeom prst="bentConnector3">
            <a:avLst>
              <a:gd name="adj1" fmla="val -4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22"/>
          <p:cNvCxnSpPr/>
          <p:nvPr/>
        </p:nvCxnSpPr>
        <p:spPr>
          <a:xfrm>
            <a:off x="2895480" y="2133720"/>
            <a:ext cx="15336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Straight Arrow Connector 25"/>
          <p:cNvCxnSpPr/>
          <p:nvPr/>
        </p:nvCxnSpPr>
        <p:spPr>
          <a:xfrm flipH="1">
            <a:off x="6323760" y="2133720"/>
            <a:ext cx="22932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 Pillars Model- Preven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waukee County dementia care specia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utreach and education to long- term care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he family caregiver of older person to the SE Wisconsin Alzheimer’s 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initial assessment (using standardized tools) and reviews with geriatrician/ Wisconsin Alzheimer’s Institute clin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isciplinary case review using the Wisconsin Star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care plan (using Cedar Community template) developed with long- term care site to address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900439255[1]"/>
          <p:cNvPicPr/>
          <p:nvPr/>
        </p:nvPicPr>
        <p:blipFill>
          <a:blip r:embed="rId1"/>
          <a:stretch/>
        </p:blipFill>
        <p:spPr>
          <a:xfrm>
            <a:off x="8153280" y="5715000"/>
            <a:ext cx="70344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C900439255[1]"/>
          <p:cNvPicPr/>
          <p:nvPr/>
        </p:nvPicPr>
        <p:blipFill>
          <a:blip r:embed="rId2"/>
          <a:stretch/>
        </p:blipFill>
        <p:spPr>
          <a:xfrm>
            <a:off x="7391520" y="5715000"/>
            <a:ext cx="703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ur Pillars Model- Crisis C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at designated Aurora pilot si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iatr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isciplinary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legal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review using Wisconsin Star method and update of the car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900439255[1]"/>
          <p:cNvPicPr/>
          <p:nvPr/>
        </p:nvPicPr>
        <p:blipFill>
          <a:blip r:embed="rId1"/>
          <a:stretch/>
        </p:blipFill>
        <p:spPr>
          <a:xfrm>
            <a:off x="8153280" y="5715000"/>
            <a:ext cx="7034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MC900439255[1]"/>
          <p:cNvPicPr/>
          <p:nvPr/>
        </p:nvPicPr>
        <p:blipFill>
          <a:blip r:embed="rId2"/>
          <a:stretch/>
        </p:blipFill>
        <p:spPr>
          <a:xfrm>
            <a:off x="7467480" y="571500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 Pillars Model- Transi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post- acute needs begins on admission to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worker evaluation and link to dementia care speci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plan follows the patient to the next site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the caregiver in collaboration with Alzheimer’s Assoc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patient preferences/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439255[1]"/>
          <p:cNvPicPr/>
          <p:nvPr/>
        </p:nvPicPr>
        <p:blipFill>
          <a:blip r:embed="rId1"/>
          <a:stretch/>
        </p:blipFill>
        <p:spPr>
          <a:xfrm>
            <a:off x="8153280" y="5715000"/>
            <a:ext cx="7034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MC900439255[1]"/>
          <p:cNvPicPr/>
          <p:nvPr/>
        </p:nvPicPr>
        <p:blipFill>
          <a:blip r:embed="rId2"/>
          <a:stretch/>
        </p:blipFill>
        <p:spPr>
          <a:xfrm>
            <a:off x="7467480" y="571500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Pillars Model- Post-Crisis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entia care specialist provides case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up with geriatrician from Center for Senior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rom Alzheimer’s Assoc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900439255[1]"/>
          <p:cNvPicPr/>
          <p:nvPr/>
        </p:nvPicPr>
        <p:blipFill>
          <a:blip r:embed="rId1"/>
          <a:stretch/>
        </p:blipFill>
        <p:spPr>
          <a:xfrm>
            <a:off x="8153280" y="5715000"/>
            <a:ext cx="70344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900439255[1]"/>
          <p:cNvPicPr/>
          <p:nvPr/>
        </p:nvPicPr>
        <p:blipFill>
          <a:blip r:embed="rId2"/>
          <a:stretch/>
        </p:blipFill>
        <p:spPr>
          <a:xfrm>
            <a:off x="7467480" y="571500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ur Pillars Model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usiness plan for crisis c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is admitted to hospital with DRG as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rora bills the Wisconsin Department of Health and Human Services for costs not covered by DRG for the initial 10 “pilot”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900439255[1]"/>
          <p:cNvPicPr/>
          <p:nvPr/>
        </p:nvPicPr>
        <p:blipFill>
          <a:blip r:embed="rId1"/>
          <a:stretch/>
        </p:blipFill>
        <p:spPr>
          <a:xfrm>
            <a:off x="8153280" y="5715000"/>
            <a:ext cx="7034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MC900439255[1]"/>
          <p:cNvPicPr/>
          <p:nvPr/>
        </p:nvPicPr>
        <p:blipFill>
          <a:blip r:embed="rId2"/>
          <a:stretch/>
        </p:blipFill>
        <p:spPr>
          <a:xfrm>
            <a:off x="7467480" y="571500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0T19:12:31Z</dcterms:created>
  <dc:creator>DEDDC8FX1</dc:creator>
  <dc:description/>
  <dc:language>en-US</dc:language>
  <cp:lastModifiedBy>LaCaze, Dinah</cp:lastModifiedBy>
  <dcterms:modified xsi:type="dcterms:W3CDTF">2025-01-23T20:31:05Z</dcterms:modified>
  <cp:revision>6</cp:revision>
  <dc:subject/>
  <dc:title>A Model to Improve the Care of Older Persons with Challenging Behaviors related to Alzheimer’s Disease</dc:title>
</cp:coreProperties>
</file>